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499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62560" y="6485040"/>
            <a:ext cx="1886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fld id="{02A5235F-A507-4DA2-AA97-6963415B42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360" y="5666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74960" y="471816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640" y="6607080"/>
            <a:ext cx="291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emens COM MD PBM BA – Decemb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520" y="3002040"/>
            <a:ext cx="8817120" cy="1598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3240" y="3255840"/>
            <a:ext cx="4249800" cy="61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27080" y="149400"/>
            <a:ext cx="8818560" cy="264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540640" y="8100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2120" algn="ctr">
              <a:spcBef>
                <a:spcPts val="400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47560" y="419580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9280" indent="-179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scriptions of a mobile device: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05 01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rchasing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n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ctions of a mobile device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main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nd receiv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connections using various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ring t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menu, telephone book, calling party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telephon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&amp; standby time for teleph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eal to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ctive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quate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ative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im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photo /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stream / show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play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nd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65680" y="1087560"/>
            <a:ext cx="4213080" cy="52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g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 playing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ga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outdoor/leisure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 from environmental 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/outdoor and leisure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messaging standards (e.g. SMS, MMS, IM, POC,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protocols (e.g. IP, SIP,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PIM &amp; business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A 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 viewing and ed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business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er additional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innovative services/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ocation Bas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840" y="22680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Necessary Parts (BN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F (Base Band IC, RF, Power Supply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ors (PS (Lumberg)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-Components (analog &amp; discr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sensors (e.g. temperature, tilt, acceleration, heart, altimeter, barometer, compass, proximity, smell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holder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ing. Keypad, acou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&amp; Low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unting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pad including l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aker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and 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ed access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effects /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nient size and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and dust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-s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need of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st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ived to be latest by that point of time (e.g. color display, 1 Mpix camera, W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lk- and standby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– play  “games”, see videos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connection / download (UMTS, EDGE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and synchronization of 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transfer (Bluetooth, IrDA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corporate mail, servers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-/ Receive -/ Stor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S, MMS, Video conferenc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s, Instant messaging, Blogging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 and Flexibility (exchangeable)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e f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music, vide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, see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located, or to locate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ind a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have coverage, and to contact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uition dr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 of key strokes (for key func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to enter/ start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9:36:31Z</dcterms:created>
  <dc:creator>Seidenschwarz &amp; Comp. GmbH</dc:creator>
  <dc:description/>
  <dc:language>en-US</dc:language>
  <cp:lastModifiedBy>Dirk Lutterbeck</cp:lastModifiedBy>
  <dcterms:modified xsi:type="dcterms:W3CDTF">2005-05-09T13:24:06Z</dcterms:modified>
  <cp:revision>18</cp:revision>
  <dc:subject/>
  <dc:title>Folie 1</dc:title>
</cp:coreProperties>
</file>